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77D-CA89-493E-BBE2-BA198C3F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EB5-506B-4A64-AD2A-9B357DDE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603-DE53-4BF6-87BE-552F652A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442-57B4-4DDB-9EB6-70876705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68A3-400A-4B06-9EAE-87BDBF1D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4132-11D3-4039-BD73-8B4338AB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1219-7A91-4F5D-B358-CFA34566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F95E-0BA8-4DCA-90C0-A17AE351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97BD-1CE5-406D-8D5B-4B017815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864D-F24C-4A5A-8774-C9DC01A9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DD73-E6AA-4B36-A6A4-63A4CAE1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646-16B7-4A31-932E-601A2EC7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2F2A-9972-4E53-9593-47D901BE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B07E-28C5-431E-BBDD-88D58807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2D51-737F-415F-BF66-37FFAD78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17FF-3686-435E-8A9D-F996996D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ED9D-BC4E-4602-BB27-5D857FAE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D5D-2F52-4660-B861-AEA33D58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6FF-9549-4BB7-86CD-3F0A30EB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826-AA28-49EC-B2A8-3A68EC05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351-2437-48F2-8142-4FFB0C11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34A-F788-4C7C-8E8A-51630EFF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EB5-4DE4-466B-A8D2-C2F720F4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451-110A-4B78-A6B4-08EE449A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1D2D-B66E-4B33-89F0-5ECC100706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FEE7-4B43-4F7E-B83A-AFBCA2FAA4A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VGmdBU"/>
                <a:ea typeface="AVGmdBU"/>
              </a:rPr>
              <a:t>Movement of Russia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宋体"/>
              </a:rPr>
              <a:t>By: Karen Chen and Mona Zhe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10e0"/>
                </a:solidFill>
                <a:latin typeface="MS UI Gothic"/>
                <a:ea typeface="MS UI Gothic"/>
              </a:rPr>
              <a:t>Types of Movement in Russia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3809880" cy="25430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eorgia"/>
                <a:ea typeface="宋体"/>
              </a:rPr>
              <a:t>C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eorgia"/>
                <a:ea typeface="宋体"/>
              </a:rPr>
              <a:t>Bu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eorgia"/>
                <a:ea typeface="宋体"/>
              </a:rPr>
              <a:t>Tra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eorgia"/>
                <a:ea typeface="宋体"/>
              </a:rPr>
              <a:t>Subw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eorgia"/>
                <a:ea typeface="宋体"/>
              </a:rPr>
              <a:t>Motorcyc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Georgia"/>
                <a:ea typeface="宋体"/>
              </a:rPr>
              <a:t>Carriages pulled by hor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Impact"/>
                <a:ea typeface="宋体"/>
              </a:rPr>
              <a:t>Port Cit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Impact"/>
                <a:ea typeface="宋体"/>
              </a:rPr>
              <a:t>Kaliningrad</a:t>
            </a:r>
            <a:r>
              <a:rPr b="0" lang="en-US" sz="1400" spc="-1" strike="noStrike">
                <a:solidFill>
                  <a:srgbClr val="ff5050"/>
                </a:solidFill>
                <a:latin typeface="Impact"/>
                <a:ea typeface="宋体"/>
              </a:rPr>
              <a:t>-No ice all year rou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Impact"/>
                <a:ea typeface="宋体"/>
              </a:rPr>
              <a:t>Kaliningr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Impact"/>
                <a:ea typeface="宋体"/>
              </a:rPr>
              <a:t>St. Petersbur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Impact"/>
                <a:ea typeface="宋体"/>
              </a:rPr>
              <a:t>Murmans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Impact"/>
                <a:ea typeface="宋体"/>
              </a:rPr>
              <a:t>Vladivost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Impact"/>
                <a:ea typeface="宋体"/>
              </a:rPr>
              <a:t>Astrakh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4047840" cy="327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b931e"/>
                </a:solidFill>
                <a:latin typeface="Comic Sans MS"/>
                <a:ea typeface="宋体"/>
              </a:rPr>
              <a:t>Advantage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宋体"/>
              </a:rPr>
              <a:t>Lots of port ci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宋体"/>
              </a:rPr>
              <a:t>Lots of different transpor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宋体"/>
              </a:rPr>
              <a:t>Volga river carries half of Russia's river traff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contrast="-12000"/>
          </a:blip>
          <a:stretch/>
        </p:blipFill>
        <p:spPr>
          <a:xfrm rot="21240000">
            <a:off x="4800600" y="198072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53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61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69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Georgia"/>
                <a:ea typeface="Malgun Gothic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Georgia"/>
                <a:ea typeface="宋体"/>
              </a:rPr>
              <a:t>Isolation-takes 8 or more days to travel across Russi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Georgia"/>
                <a:ea typeface="宋体"/>
              </a:rPr>
              <a:t>Highways build in for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Georgia"/>
                <a:ea typeface="宋体"/>
              </a:rPr>
              <a:t>Protests are form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Georgia"/>
                <a:ea typeface="宋体"/>
              </a:rPr>
              <a:t>Rivers can free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6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Comic Sans MS"/>
                <a:ea typeface="宋体"/>
              </a:rPr>
              <a:t>MET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宋体"/>
              </a:rPr>
              <a:t>Name of one of Russia's subw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宋体"/>
              </a:rPr>
              <a:t>People in Moscow takes the Met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宋体"/>
              </a:rPr>
              <a:t>Most of the people take the metro to go to work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4876920" cy="281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3352680" cy="43624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Century"/>
                <a:ea typeface="宋体"/>
              </a:rPr>
              <a:t>Russia’s Subway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b8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entury"/>
                <a:ea typeface="宋体"/>
              </a:rPr>
              <a:t>Most confusing subways in the wor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b8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entury"/>
                <a:ea typeface="宋体"/>
              </a:rPr>
              <a:t>Tourists can get l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La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Eastern Russia has lots of high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Really hard to get a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The size of Russia is too big to get a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Have to go through highlands to get to eastern Russ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2437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egoe Script"/>
                <a:ea typeface="宋体"/>
              </a:rPr>
              <a:t>TH</a:t>
            </a:r>
            <a:r>
              <a:rPr b="0" lang="en-US" sz="8000" spc="-1" strike="noStrike">
                <a:solidFill>
                  <a:srgbClr val="1010e0"/>
                </a:solidFill>
                <a:latin typeface="Segoe Script"/>
                <a:ea typeface="宋体"/>
              </a:rPr>
              <a:t>E</a:t>
            </a:r>
            <a:r>
              <a:rPr b="0" lang="en-US" sz="8000" spc="-1" strike="noStrike">
                <a:solidFill>
                  <a:srgbClr val="000000"/>
                </a:solidFill>
                <a:latin typeface="Segoe Script"/>
                <a:ea typeface="宋体"/>
              </a:rPr>
              <a:t> </a:t>
            </a:r>
            <a:r>
              <a:rPr b="0" lang="en-US" sz="8000" spc="-1" strike="noStrike">
                <a:solidFill>
                  <a:srgbClr val="1010e0"/>
                </a:solidFill>
                <a:latin typeface="Segoe Script"/>
                <a:ea typeface="宋体"/>
              </a:rPr>
              <a:t>E</a:t>
            </a:r>
            <a:r>
              <a:rPr b="0" lang="en-US" sz="8000" spc="-1" strike="noStrike">
                <a:solidFill>
                  <a:srgbClr val="ff0000"/>
                </a:solidFill>
                <a:latin typeface="Segoe Script"/>
                <a:ea typeface="宋体"/>
              </a:rPr>
              <a:t>ND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41:42Z</dcterms:created>
  <dc:creator> </dc:creator>
  <dc:description/>
  <dc:language>en-US</dc:language>
  <cp:lastModifiedBy> </cp:lastModifiedBy>
  <dcterms:modified xsi:type="dcterms:W3CDTF">2010-12-20T14:55:23Z</dcterms:modified>
  <cp:revision>7</cp:revision>
  <dc:subject/>
  <dc:title>Movement of Russia</dc:title>
</cp:coreProperties>
</file>